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0198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F6E-D78D-4DCE-803F-188EC2B2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E8BE-A71D-40EE-894D-3AE20376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B69-5FB1-4C9F-8788-5CE6567B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CC9-DF34-4C9D-9DB6-CCD2AE85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1DBF-4A4B-4E61-8D58-004A5C7A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CA3C-133E-4602-BEE5-A741985A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162E-6FEE-4834-B5AB-418172AF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4B32-EEC3-4648-A0D5-3E4A38D6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5C4D-234C-4FEC-A0E4-3D8C196D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DD40-0608-454E-BCEF-55236BA1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3BA3-079D-42F1-B185-1D2A7252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39A-F3B2-4A56-ADD1-73E21FF2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3C83-189B-41A1-ACC8-CCEC10F0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3412-D424-4685-86FC-86564EAF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CA68-B377-4810-B34D-52CD463D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F9DF-EAC0-47EB-A323-73B25A4B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AAF5-F825-4D38-8BF2-6CB66880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7AF-F4F4-430D-91E4-E377A4AC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BA77-83F9-4030-B66A-56CD21C6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EF1-B15C-4113-A9E7-7A238EF4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4D1-AA09-4557-943F-67790F38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B81-2B21-4513-BD0E-7B0F0ACC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69EF-504C-4509-B329-B116DD43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595-D5C8-4328-9C4D-39CD3087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AF1C-7522-436D-881B-9F288D4A93B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A265-E237-4DB9-8228-EA8BACEEA88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0066"/>
                </a:solidFill>
                <a:latin typeface="Arial"/>
              </a:rPr>
              <a:t>Lesson 29</a:t>
            </a:r>
            <a:endParaRPr b="1" lang="en-US" sz="9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268000" y="3429000"/>
            <a:ext cx="4240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ialogu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11280" y="61452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You don’t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keep your wor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352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) keep one's word/promise  v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守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hold  one's 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26305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 break one's word  /promi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8720" y="34956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eat one's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443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igh one's word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斟酌词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53020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) waste one's words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费口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41904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a wor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short; in summa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简而言之；概括地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a word, the situation is serio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总而言之，形势很严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27162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) in other words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换句话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3429000"/>
            <a:ext cx="77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ve words wit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争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争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400536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9) have a word with s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某人谈一两句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某人谈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9440" y="515772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word spoken is past recall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640" y="587700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一言既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驷马难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304920"/>
            <a:ext cx="7056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. Anyhow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I’ll see you next we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在句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7280" y="173664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)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论如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管怎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 any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) It may rain, but anyhow I shall go out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可能要下雨，但无论如何我要出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46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Anyhow I must finish this job today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论如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今天要完成这件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476100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 Nevertheless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尽管如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5148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t sounds crazy, but I believe it anyhow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听起来像疯话，然而我相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836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apologiz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make excuse for or regretful acknowledgment of a fault or offens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道歉，认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260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pologiz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or being so angry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2637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apologized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er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stepping on her foot.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因踩了她的脚而向她道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378936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pologize to sb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某人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pologize to sb. for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某人为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做了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pologize to sb. for 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某人为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做了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10666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nt to d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; intend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意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打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3049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idn’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mean t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 so ru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98108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 I meant to go running this morning, but I overslep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429000"/>
            <a:ext cx="8381880" cy="29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was meant for [to be] a doc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本来是准备把他培养成为医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didn’t mean to hurt you; I just wanted to tell you 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60181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 means working 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50920" y="765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shamed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eling shame or guilt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羞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感到害臊或有罪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8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feel rath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ha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184464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 Are you ashamed for having l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撒了谎感到害臊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97180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behaved badly yesterday and I am ashamed (of myself)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我昨天表现不好，我现在感到很惭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46483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There’s no ne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518148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re is no need to do s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5867280"/>
            <a:ext cx="861048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plenty of time. There's no need to hur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's no need for a guide on our journey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04920"/>
            <a:ext cx="8305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angry with sb ( for doing sth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angry at sth / -ing / wh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9810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什么也没做， 为此 他很生我的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 angry with me for not having done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as angry at his id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 angry at what I said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but = except, but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后常用代词宾格，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prep 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除去，除开，常与 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nobody , nothing ,   no one 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连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o one can do it but him / him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3300"/>
                </a:solidFill>
                <a:latin typeface="Arial"/>
              </a:rPr>
              <a:t>3.I‘ve been looking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.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是现在完成进行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构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have (has) + been + -ing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I have been learning English for more than five year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3300"/>
                </a:solidFill>
                <a:latin typeface="Arial"/>
              </a:rPr>
              <a:t>look forward to sth./doing sth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期待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4.change one‘s mind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mind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单数形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If one always change one's mind, he succeeds in nothing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.fix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repair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an you fix TV set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agree on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fix +a day, the price, the da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Let's fix a day. Would Saturday night suit you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hey haven't fixed the date for the interview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You should first fix the ren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fix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过去分词还可用来作表语或定语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Basic prices are low and fix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he date fixed for the meeting was June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fix one's eyes on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（眼睛、注意力等）盯住，专注于…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he fixed her eyes on the envelop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He fixed his attention on listening to the morning new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5.argue with sb about st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quarrel with sb. about st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He argued with the taxi driver about the f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30492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ming 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Have you ever had misunderstandings with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What will you do after you find out that you have misunderstood somebo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What will you say to her / 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621240"/>
            <a:ext cx="7925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’m sorry to be so 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apologize for shouting a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Please excuse me for***(do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didn’t mean to ***(do / 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’m afraid I was very 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915840"/>
            <a:ext cx="9677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" y="123840"/>
            <a:ext cx="785052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4:  the expressions about  apolog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620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pologiz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6206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ow to resp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05264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am sorry about sth./ for doing sth./to have done sth./ tha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280" y="3141720"/>
            <a:ext cx="39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I apologize (to you) for doing sth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0" y="429264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Excuse me for doing s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119700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1.That’s OK/ all 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228276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2. Never mi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27640" y="3075120"/>
            <a:ext cx="43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3. It’s not import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6000" y="39402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4. That’s no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16400" y="49021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5. Don’t worry about t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8000" y="552456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I didn’t mean to do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-1905120"/>
            <a:ext cx="9144000" cy="967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90792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next Fri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9079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n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0" y="9079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1484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155736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an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7528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hang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227664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oo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44720" y="234936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onsid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45080" y="244008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306864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rg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308772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pologiz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3068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ng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266760"/>
            <a:ext cx="756108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5:  exercises:  W.B. Ex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393372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isundersta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4005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sappoin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4724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sho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33800" y="472428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r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48360" y="479736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sham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558972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a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87640" y="566100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n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380880"/>
            <a:ext cx="8915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A notice was placed by the thin ice, w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eople to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keep of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keep 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C. go out     D.  go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92360" y="990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3124080"/>
            <a:ext cx="8686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 John was made ______ the truck for a week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punish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w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B. wash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w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D. to be 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3048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90720" y="304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121932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e should do what we can to stop the river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pollu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B. to be pollu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ollu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D. being poll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1676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403848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He has ______ letters t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much                B. a great deal of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masses o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D. the numbe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68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09480" y="457200"/>
            <a:ext cx="8001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Boys and girls are looking forward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ifts for Children’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being given               B. to giving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for being given              D. to g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563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403848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If you can’t find a doctor, a nurse will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d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 b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 fi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4572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66680" y="105084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533520"/>
            <a:ext cx="83055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Most of the water has been poured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est ______ in the bo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re lef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B. were lef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is lef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is not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1219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3794040"/>
            <a:ext cx="8915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Water will not turn into ice _____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emperature falls below zero degree centig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i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B whe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C unless          D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3794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101800" y="627840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e9ce8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066680" y="38088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38088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There is no need ______ us to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ow, I th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B. fo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C. o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D.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3049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3352680"/>
            <a:ext cx="8991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 I don’t mean _____ you, but I must tell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disappoin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B. disappoin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o be disappoin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D. being disappo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719120" y="627840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e9ce8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8600" y="533520"/>
            <a:ext cx="8915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. -----I apologize for quarrelling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---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hank you.                  B. You’re welc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hat’s nothing.            D. Not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1219320"/>
            <a:ext cx="1067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916360" y="2565360"/>
            <a:ext cx="315432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GOOD-BYE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How will you answer to an apolo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99072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That’s all right.  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That’s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Never mind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It’no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320" y="4368960"/>
            <a:ext cx="9144000" cy="34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)1Kate and Jane won’t go out together next 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)2 Kate is so selfish that she just consider he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)3 It is 14 days later that they meet each other agai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9784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56181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273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320" y="2819520"/>
            <a:ext cx="876276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1: listen to the tape and find out the 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914400"/>
            <a:ext cx="88394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sten and fill in the blan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fter they______with each other , Kate  couldn’t _______ that Friday,she was going _____ for the weekend. But Jane thought Kate didn’t keep her _____.  She changed her mind ___ ____ _______ . So they had a misunderstanding. A_________ later, Jane  __________ for being so angry with her friend, and  she felt ______  __________ , but she didn’t _____ to be so rude.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16765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2133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3124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30481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t   last  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3581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t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4038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olog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4572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ther    ash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5029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1. What were they arguing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 They were arguing  if they had fixed  to go out on Fri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2. What did Jane think they would  do next Fri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 Jane thought they would go out for dinner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3. What was Kate going to do next Fri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Kate was going away for the week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4. What did  Jane blame Kate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In Jane’s opinion, Kate  didn’t keep her words , and didn’t consider anyone but her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75960" y="-457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Ask and Answer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 When did the 2 girls meet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5. A fortnight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. What did Jane do this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6. She apologized for being so rude to K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 What was the reason for the argument, according to J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7. They might have a misunderstanding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the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28720" y="396252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 And now I am telling you can’t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manage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this Frida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1.gif (8012 bytes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20080" y="5589720"/>
            <a:ext cx="1089000" cy="1152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4360" y="476280"/>
            <a:ext cx="669600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2: listen to the tape again and read after the ta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2205000"/>
            <a:ext cx="6696000" cy="119124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3: dealing with the language poi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24000" y="68580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succeed in accomplishing or achieving, especially with difficulty; contrive or arrang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设法做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努力完成最终达到目的或完成任务的，尤指困难地设法或安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498168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 We finally managed to get there in time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后我们及时赶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6482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age to get a promo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设法得到晋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95280" y="33336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管理；处理； 支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managed the supermarket when the owner was away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当主人不在的时候，他管理这个超级市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2637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能应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1) The pilot managed to circle the balloon for some time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位飞行员设法绕气球飞了一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5084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 He managed to avoid an accid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设法避免事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07:46:51Z</dcterms:created>
  <dc:creator>罗燕玲</dc:creator>
  <dc:description/>
  <dc:language>en-US</dc:language>
  <cp:lastModifiedBy>w</cp:lastModifiedBy>
  <dcterms:modified xsi:type="dcterms:W3CDTF">2004-10-06T15:31:34Z</dcterms:modified>
  <cp:revision>90</cp:revision>
  <dc:subject/>
  <dc:title>Lesson two</dc:title>
</cp:coreProperties>
</file>